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61A-27EA-49CA-97E4-7747F21F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6CC-D626-4FEA-A79B-06A5841A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8C9-B409-499D-96E9-104968B4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9E7-70D9-410F-A4CB-93ABAC92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0CA1-FB15-4D22-9148-1BAAEC01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F2D2-79DC-4B5F-96AB-0D3FE1B0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E534-A66D-4A31-B706-102BA012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3E31-0762-4EEC-A15B-D43A9ED4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9A68-864C-4DEA-8A95-1BD77787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72AD-34D1-4399-A0B6-89DFA7D7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C0FB-9CA0-4E3E-B760-D5D2280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4A9-2724-46DE-A18A-E057CC24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D9A1-0824-4726-8639-ECD54B3A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513C-ECD5-444B-A1A6-8A79D953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544A-BBD7-4B32-8E3F-525E305A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7496-0D74-4C10-A65F-369F9F9F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B3D5-040D-4EAF-936F-94E5D260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96C-9713-470C-B72D-C96BA4A0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707-DB68-4B93-823E-3E49DD3D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B84-BF78-4468-887B-3A59BDF9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D47-5474-476D-8D1E-DE6020C4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2D2-A38B-4837-B968-EF4E9358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B64-6CE6-4A61-8010-87828A6F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DF9-61E8-4FC0-96E8-1DD81A8E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strana </a:t>
            </a:r>
            <a:fld id="{425211ED-CF8B-4D4B-9A3C-CF518778844D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4572000" cy="227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C:\Users\AVC\Desktop\powerpoint\logo_MENDELU_CMYK_neg1.jpg"/>
          <p:cNvPicPr/>
          <p:nvPr/>
        </p:nvPicPr>
        <p:blipFill>
          <a:blip r:embed="rId2"/>
          <a:stretch/>
        </p:blipFill>
        <p:spPr>
          <a:xfrm>
            <a:off x="285840" y="142920"/>
            <a:ext cx="2428920" cy="2025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F943-8F66-4ADD-990E-426D80C7BE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2852640"/>
            <a:ext cx="759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8be14"/>
                </a:solidFill>
                <a:latin typeface="Arial"/>
              </a:rPr>
              <a:t>Analýza kvality života seniorů v ČR</a:t>
            </a:r>
            <a:endParaRPr b="1" lang="en-US" sz="40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716280"/>
            <a:ext cx="75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ezentace výsledků projektu TAČR č.TB05MPSV004 „Výzkum v oblasti kvality života seniorů v ČR“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859280" y="2602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11.4.2017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i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oc. Ing. Lea Kubíčková, Ph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9912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Roční frekvence návštěvy obvodního lékaře ve vztahu ke zdravotnímu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5" name="Zástupný symbol pro obsah 4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704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9EA12CC1-7D54-4848-B94F-C0C0A606886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Finanční situace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8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129800" cy="403236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214C8E53-B328-4342-BC1C-3AF803F1856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zdravotnímu stavu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1" name="Zástupný symbol pro obsah 4" descr=""/>
          <p:cNvPicPr/>
          <p:nvPr/>
        </p:nvPicPr>
        <p:blipFill>
          <a:blip r:embed="rId1"/>
          <a:stretch/>
        </p:blipFill>
        <p:spPr>
          <a:xfrm>
            <a:off x="1332000" y="2292480"/>
            <a:ext cx="6851520" cy="40161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84845BD3-F67C-4CD0-9DCE-4E3D40108FD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velikosti obce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4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7067520" cy="4232160"/>
          </a:xfrm>
          <a:prstGeom prst="rect">
            <a:avLst/>
          </a:prstGeom>
          <a:ln w="0">
            <a:noFill/>
          </a:ln>
        </p:spPr>
      </p:pic>
      <p:sp>
        <p:nvSpPr>
          <p:cNvPr id="12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CB23D4DF-2608-4336-A7C2-4518B63237F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ocit bezpečí seniorů s ohledem na to, s kým senior žije, popř. zda žije sám/a</a:t>
            </a:r>
            <a:br>
              <a:rPr sz="2800"/>
            </a:b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7" name="Zástupný symbol pro obsah 4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985080" cy="38876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0472632B-504E-484B-8D95-9EEED9692B2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Důvody, proč se senioři necítí bezpečně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0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996240" cy="3960720"/>
          </a:xfrm>
          <a:prstGeom prst="rect">
            <a:avLst/>
          </a:prstGeom>
          <a:ln w="0">
            <a:noFill/>
          </a:ln>
        </p:spPr>
      </p:pic>
      <p:sp>
        <p:nvSpPr>
          <p:cNvPr id="13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D0B2EDC6-E167-41F3-AE77-55544ECED60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bezpeč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6840720" cy="4160880"/>
          </a:xfrm>
          <a:prstGeom prst="rect">
            <a:avLst/>
          </a:prstGeom>
          <a:ln w="0">
            <a:noFill/>
          </a:ln>
        </p:spPr>
      </p:pic>
      <p:sp>
        <p:nvSpPr>
          <p:cNvPr id="13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C829FE7D-415F-4923-B879-5723BA57890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dobrovolnictv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6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55344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3A5F24F5-CE1A-4A54-9FC7-5D28403B74F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2800"/>
            </a:b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ředčasný odchod do důchodu - motivy</a:t>
            </a: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9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996240" cy="3961080"/>
          </a:xfrm>
          <a:prstGeom prst="rect">
            <a:avLst/>
          </a:prstGeom>
          <a:ln w="0">
            <a:noFill/>
          </a:ln>
        </p:spPr>
      </p:pic>
      <p:sp>
        <p:nvSpPr>
          <p:cNvPr id="14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FE8BD39-F37D-4BC3-A436-4AC6A7A1322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356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 - motiv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0419E902-FEB8-4B96-BE5B-DD3FDED0716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Zástupný symbol pro obsah 6" descr=""/>
          <p:cNvPicPr/>
          <p:nvPr/>
        </p:nvPicPr>
        <p:blipFill>
          <a:blip r:embed="rId1"/>
          <a:stretch/>
        </p:blipFill>
        <p:spPr>
          <a:xfrm>
            <a:off x="971640" y="2739960"/>
            <a:ext cx="72118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číslo snímku 5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468DB4F-AC56-49EF-9A8B-CC4F4FB3963E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Hlavní cíl projekt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ovést </a:t>
            </a:r>
            <a:r>
              <a:rPr b="1" lang="cs-CZ" sz="3200" spc="-1" strike="noStrike">
                <a:solidFill>
                  <a:srgbClr val="505050"/>
                </a:solidFill>
                <a:latin typeface="Arial"/>
              </a:rPr>
              <a:t>detailní a komplexní analýzu kvality života českých seniorů</a:t>
            </a: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, na jejímž základě bude možno formulovat návrhy, jež by vedly ke zkvalitnění jejich života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– další důvody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45" name="Zástupný symbol pro obsah 4" descr=""/>
          <p:cNvPicPr/>
          <p:nvPr/>
        </p:nvPicPr>
        <p:blipFill>
          <a:blip r:embed="rId1"/>
          <a:stretch/>
        </p:blipFill>
        <p:spPr>
          <a:xfrm>
            <a:off x="1403280" y="2654280"/>
            <a:ext cx="6481800" cy="3727440"/>
          </a:xfrm>
          <a:prstGeom prst="rect">
            <a:avLst/>
          </a:prstGeom>
          <a:ln w="0">
            <a:noFill/>
          </a:ln>
        </p:spPr>
      </p:pic>
      <p:sp>
        <p:nvSpPr>
          <p:cNvPr id="14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5B212911-0EFE-4535-85E8-9B2AA8225D5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8D808AF3-06DE-4609-9D5A-92B344FF01B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ěkuji Vám za pozornost.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truktura projektu a metod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Analýza dat z výsledků EU SILC,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imární výzkum: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ntitativní část – dotazníkové šetření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 celkem 3071 zpracovaných dotazníků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litativní část – hloubkové rozhovory            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3 cílové skupiny (senioři nad 75 let, kteří odešli v řádném čase do důchodu; senioři, kteří odešli do předčasného důchodu; senioři, kteří setrvávají na trhu práce),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3D9B030E-815E-40CB-B3EF-0617B4E4322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ýsledky kvantitativního šetřen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Životní situace seniorů a oblast bydlení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ůvody setrvání v zaměstnání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Zdravotní stav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Spojenost s finanční situací u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ocit bezpečí seniorů</a:t>
            </a:r>
            <a:r>
              <a:rPr b="1" i="1" lang="cs-CZ" sz="32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259A8397-B4AB-4724-9809-B323C7144E4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Životní situace seniorů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0" name="Zástupný symbol pro obsah 6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983640" cy="4435200"/>
          </a:xfrm>
          <a:prstGeom prst="rect">
            <a:avLst/>
          </a:prstGeom>
          <a:ln w="0">
            <a:noFill/>
          </a:ln>
        </p:spPr>
      </p:pic>
      <p:sp>
        <p:nvSpPr>
          <p:cNvPr id="10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3323FAE2-377D-46F5-AC85-B61BE899078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Oblast bydlení seniorů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1903320"/>
            <a:ext cx="7201080" cy="44053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B953EC47-1224-4F39-8296-E88733826F4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ercepce odchodu  do důchodu – vazba na vzdělání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6" name="Zástupný symbol pro obsah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8508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28AEE5AE-2B9A-4A1C-B035-FEA64530FEC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69962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8be14"/>
                </a:solidFill>
                <a:latin typeface="Arial"/>
              </a:rPr>
              <a:t>Typický respondent pro jednotlivé důvody setrvání/nesetrvání v zaměstnání</a:t>
            </a:r>
            <a:endParaRPr b="1" lang="en-US" sz="2400" spc="-1" strike="noStrike">
              <a:solidFill>
                <a:srgbClr val="78be14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7600" y="2122560"/>
          <a:ext cx="8331120" cy="4403520"/>
        </p:xfrm>
        <a:graphic>
          <a:graphicData uri="http://schemas.openxmlformats.org/drawingml/2006/table">
            <a:tbl>
              <a:tblPr/>
              <a:tblGrid>
                <a:gridCol w="3867120"/>
                <a:gridCol w="4464000"/>
              </a:tblGrid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, protože mi důchod nepostačuje na pokrytí životní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mít vyšší životní úrov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žije s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6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být mezi lid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práce mě ba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vysokoškolské vzdělání</a:t>
                      </a: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z jiných důvo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Žena ve věku 66-70 let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má střední vzdělání s maturitou a žije s 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8CEDDD72-3066-4297-8D26-B46A5603369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nímání zdravotního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2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292480"/>
            <a:ext cx="6996240" cy="4016160"/>
          </a:xfrm>
          <a:prstGeom prst="rect">
            <a:avLst/>
          </a:prstGeom>
          <a:ln w="0">
            <a:noFill/>
          </a:ln>
        </p:spPr>
      </p:pic>
      <p:sp>
        <p:nvSpPr>
          <p:cNvPr id="113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BFF53457-E26C-4A2B-85D2-1C025A074DF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František Dařena</dc:creator>
  <dc:description/>
  <dc:language>en-US</dc:language>
  <cp:lastModifiedBy>Lea</cp:lastModifiedBy>
  <dcterms:modified xsi:type="dcterms:W3CDTF">2017-04-10T05:54:11Z</dcterms:modified>
  <cp:revision>23</cp:revision>
  <dc:subject/>
  <dc:title>Snímek 1</dc:title>
</cp:coreProperties>
</file>